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5.png" ContentType="image/png"/>
  <Override PartName="/ppt/media/image2.png" ContentType="image/png"/>
  <Override PartName="/ppt/media/image3.png" ContentType="image/png"/>
  <Override PartName="/ppt/media/image6.wmf" ContentType="image/x-wmf"/>
  <Override PartName="/ppt/media/image7.png" ContentType="image/pn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989C4-453E-418F-95A1-777F263DF1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0DD42-3111-4644-A3DC-F00628CE3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38B07-D774-4664-AC0A-16B96DB09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CC3FB-F805-4391-A1A7-97438720A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B619-25D2-4FD9-8B1E-E1C6A65C0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03E-0A79-4150-9B8C-8EDF32823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465D9-3BFC-4F01-8C05-4F268C855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76ED1-29D8-4FAA-980F-FA9770B36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5580B-9ACC-49DC-AB14-26F5CFBBB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8A366-E4A7-4C38-8755-626722BFD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EE9F4-79AE-4353-94F6-224DE6C8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9E40-E83D-4BA7-B019-459D23D6F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4E1D1-0643-4073-B104-840F235537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audio" Target="file:///tmp/home/.config/libreoffice/4/user/gallery/tapdnc0a.wav" TargetMode="External"/><Relationship Id="rId3" Type="http://schemas.microsoft.com/office/2007/relationships/media" Target="file:///tmp/home/.config/libreoffice/4/user/gallery/tapdnc0a.wav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audio" Target="file:///tmp/home/.config/libreoffice/4/user/gallery/j0074722.wav" TargetMode="External"/><Relationship Id="rId2" Type="http://schemas.microsoft.com/office/2007/relationships/media" Target="file:///tmp/home/.config/libreoffice/4/user/gallery/j0074722.wav" TargetMode="External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licema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ud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oyius Spenc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Jaden Cabbi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er Shephe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Micheal Chamble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80880" y="1541520"/>
            <a:ext cx="4114800" cy="414000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>
            <a:hlinkClick r:id="" action="ppaction://media"/>
          </p:cNvPr>
          <p:cNvPicPr/>
          <p:nvPr>
            <a:audioFile r:link="rId2"/>
            <p:extLst>
              <p:ext uri="{DAA4B4D4-6D71-4841-9C94-3DE7FCFB9230}">
                <p14:media r:link="rId3"/>
              </p:ext>
            </p:extLst>
          </p:nvPr>
        </p:nvPicPr>
        <p:blipFill>
          <a:blip r:embed="rId4"/>
          <a:stretch>
            <a:fillRect/>
          </a:stretch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2495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4"/>
                </p:tgtEl>
              </p:cMediaNode>
            </p:audio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Job Descrip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Protect the Publ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Enforce the La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Public Rel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Stenci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Stencil"/>
              </a:rPr>
              <a:t>Investig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>
            <a:hlinkClick r:id="" action="ppaction://media"/>
          </p:cNvPr>
          <p:cNvPicPr/>
          <p:nvPr>
            <a:audioFile r:link="rId1"/>
            <p:extLst>
              <p:ext uri="{DAA4B4D4-6D71-4841-9C94-3DE7FCFB9230}">
                <p14:media r:link="rId2"/>
              </p:ext>
            </p:extLst>
          </p:nvPr>
        </p:nvPicPr>
        <p:blipFill>
          <a:blip r:embed="rId3"/>
          <a:stretch>
            <a:fillRect/>
          </a:stretch>
        </p:blipFill>
        <p:spPr>
          <a:xfrm>
            <a:off x="4800600" y="3733920"/>
            <a:ext cx="274320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" dur="56384" fill="hold"/>
                                        <p:tgtEl>
                                          <p:spTgt spid="4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audio isNarration="0">
              <p:cMediaNode showWhenStopped="1">
                <p:cTn/>
                <p:tgtEl>
                  <p:spTgt spid="47"/>
                </p:tgtEl>
              </p:cMediaNode>
            </p:audio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Sala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440" y="3200040"/>
            <a:ext cx="38098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$22,922-$30,09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4796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191120" y="2549520"/>
            <a:ext cx="4724280" cy="37749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 rot="10800000">
            <a:off x="2590560" y="4419360"/>
            <a:ext cx="1523880" cy="99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" dur="2313" fill="hold"/>
                                        <p:tgtEl>
                                          <p:spTgt spid="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Goudy Stout"/>
              </a:rPr>
              <a:t>Educ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High School Dipl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Police Academ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Rockwell Extra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Certific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2971800" y="3733920"/>
            <a:ext cx="3505320" cy="281916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 rot="10800000">
            <a:off x="837720" y="5257440"/>
            <a:ext cx="1676520" cy="121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" dur="46003" fill="hold"/>
                                        <p:tgtEl>
                                          <p:spTgt spid="5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바탕"/>
              </a:rPr>
              <a:t>Interesting Fact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Must be able 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Follow ord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Use common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Control stre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Batang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바탕"/>
              </a:rPr>
              <a:t>Make good decisions+++++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410080" y="1676520"/>
            <a:ext cx="3276720" cy="46479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4419720" y="2133720"/>
            <a:ext cx="8380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" dur="1" fill="hold"/>
                                        <p:tgtEl>
                                          <p:spTgt spid="6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6T00:58:44Z</dcterms:created>
  <dc:creator>Wireless Project</dc:creator>
  <dc:description/>
  <dc:language>en-US</dc:language>
  <cp:lastModifiedBy>LWHITE</cp:lastModifiedBy>
  <dcterms:modified xsi:type="dcterms:W3CDTF">2011-04-19T13:28:23Z</dcterms:modified>
  <cp:revision>3</cp:revision>
  <dc:subject/>
  <dc:title>Policeman</dc:title>
</cp:coreProperties>
</file>